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3A38F-F03B-4B96-A438-0866A2BAF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0CB9-3AF3-4996-A8ED-845F84F07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E9801-BAF0-49ED-8E0B-B1927814F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0303-F9C1-4820-A010-D5206C5DA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29330-4419-42C0-8B4E-54EB84A46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DF65C-01B3-468B-911D-596E86541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C4C20-40FD-4E48-9CF9-8E8D4CD22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62576-F3B5-4588-AA0A-00A2FA305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09B36-3677-4B86-A69F-36CC31D56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378FE-694E-49B8-8E19-EC60B2587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9958A-5DF1-4D3E-8A42-32FE3337C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9DEDE-588F-4D10-A1A7-90ADDF734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65759-42DC-417E-8A47-D131AFB7D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A819E-119F-4DD7-8591-274BC7969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5AC9D-067E-4703-917C-E18031436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395EA9-3428-4E78-B40C-9FF369E4A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6D898-E85B-427F-AFBF-8C3AD1D16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AF422-3080-4123-86F0-49430409C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3290-F9D6-461C-A07A-714CFCADF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A5CB-B74B-46BF-83AD-672175F0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466D4-7E8D-40CF-B568-1FA40E6A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205A-D93D-4A9F-8F1F-9C4C9FE5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4E40-B99D-4075-8380-A7EBF560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4C37-A2A6-4AE4-9005-7B2BE3A03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067D-F0A6-4C1B-9FE2-D88DEBCA7A0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F590-7272-46BC-B5CD-F3CC8A82A58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alphaModFix amt="27000"/>
          </a:blip>
          <a:stretch/>
        </p:blipFill>
        <p:spPr>
          <a:xfrm>
            <a:off x="1066680" y="2362320"/>
            <a:ext cx="7315200" cy="3581280"/>
          </a:xfrm>
          <a:prstGeom prst="rect">
            <a:avLst/>
          </a:prstGeom>
          <a:ln w="0">
            <a:noFill/>
          </a:ln>
        </p:spPr>
      </p:pic>
      <p:sp>
        <p:nvSpPr>
          <p:cNvPr id="9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National Indian Business Association</a:t>
            </a:r>
            <a:endParaRPr b="1" lang="en-US" sz="3200" spc="-1" strike="noStrike">
              <a:solidFill>
                <a:srgbClr val="006666"/>
              </a:solidFill>
              <a:latin typeface="Arial"/>
            </a:endParaRPr>
          </a:p>
        </p:txBody>
      </p:sp>
      <p:sp>
        <p:nvSpPr>
          <p:cNvPr id="96" name="PlaceHolder 2"/>
          <p:cNvSpPr>
            <a:spLocks noGrp="1"/>
          </p:cNvSpPr>
          <p:nvPr>
            <p:ph/>
          </p:nvPr>
        </p:nvSpPr>
        <p:spPr>
          <a:xfrm>
            <a:off x="761760" y="2514240"/>
            <a:ext cx="79246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How To Develop An Advertising Plan</a:t>
            </a:r>
            <a:endParaRPr b="0" lang="en-US" sz="3200" spc="-1" strike="noStrike">
              <a:solidFill>
                <a:srgbClr val="003366"/>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2002 by National Indian Business Association Staff</a:t>
            </a: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ll Rights Reserved</a:t>
            </a: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s publication was prepared by</a:t>
            </a:r>
            <a:endParaRPr b="0" lang="en-US" sz="2000" spc="-1" strike="noStrike">
              <a:solidFill>
                <a:srgbClr val="003366"/>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National Indian Business Association Staff</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y Advertise?</a:t>
            </a:r>
            <a:r>
              <a:rPr b="1" lang="en-US" sz="3200" spc="-1" strike="noStrike">
                <a:solidFill>
                  <a:srgbClr val="006666"/>
                </a:solidFill>
                <a:latin typeface="Verdana"/>
              </a:rPr>
              <a:t> </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dvertise takes knowledge of the market, the ability to read, dissect, and the capacity to creatively attract the attention of the audiences, the discipline to meet deadlines, negotiate contracts, and quickly re-evaluate and sometimes revise strategies to deal with changes in the market.</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0EE9654-F2AA-48F0-81AF-D76534AE55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Importance of Advertising</a:t>
            </a:r>
            <a:endParaRPr b="1" lang="en-US" sz="3200" spc="-1" strike="noStrike">
              <a:solidFill>
                <a:srgbClr val="006666"/>
              </a:solidFill>
              <a:latin typeface="Arial"/>
            </a:endParaRPr>
          </a:p>
        </p:txBody>
      </p:sp>
      <p:sp>
        <p:nvSpPr>
          <p:cNvPr id="116" name="PlaceHolder 1"/>
          <p:cNvSpPr>
            <a:spLocks noGrp="1"/>
          </p:cNvSpPr>
          <p:nvPr>
            <p:ph/>
          </p:nvPr>
        </p:nvSpPr>
        <p:spPr>
          <a:xfrm>
            <a:off x="838080" y="2514600"/>
            <a:ext cx="7693200" cy="3571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public benefits greatly from advertising expenditures.  First, advertising is informative.  The number one medium, newspaper advertising, is full of information about products, price, features, and more</a:t>
            </a:r>
            <a:r>
              <a:rPr b="0" lang="en-US" sz="2000" spc="-1" strike="noStrike">
                <a:solidFill>
                  <a:srgbClr val="003366"/>
                </a:solidFill>
                <a:latin typeface="Arial"/>
              </a:rPr>
              <a:t>.  It is important to remember that during the early stages of your business where cash is generally scarce, you focus on networking and referrals as well as other low-cost advertising tools to get your first customers in the door.</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Newspaper, Radio, and Yellow Page ads are especially attractive to local advertisers.  Television has many advantages to national advertisers, but it is expensive.</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1B2DF2D-DDAB-40D6-8F2B-67E1E6444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at Makes Advertising Work</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o what makes advertising effective?  Effective advertising is:</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1" lang="en-US" sz="2000" spc="-1" strike="noStrike">
                <a:solidFill>
                  <a:srgbClr val="003366"/>
                </a:solidFill>
                <a:latin typeface="Verdana"/>
              </a:rPr>
              <a:t>Creative:</a:t>
            </a:r>
            <a:r>
              <a:rPr b="0" lang="en-US" sz="2000" spc="-1" strike="noStrike">
                <a:solidFill>
                  <a:srgbClr val="003366"/>
                </a:solidFill>
                <a:latin typeface="Verdana"/>
              </a:rPr>
              <a:t>  It delivers the advertising message in a        </a:t>
            </a:r>
            <a:r>
              <a:rPr b="0" lang="en-US" sz="2000" spc="-1" strike="noStrike">
                <a:solidFill>
                  <a:srgbClr val="003366"/>
                </a:solidFill>
                <a:latin typeface="Verdana"/>
              </a:rPr>
              <a:t>	</a:t>
            </a:r>
            <a:r>
              <a:rPr b="0" lang="en-US" sz="2000" spc="-1" strike="noStrike">
                <a:solidFill>
                  <a:srgbClr val="003366"/>
                </a:solidFill>
                <a:latin typeface="Verdana"/>
              </a:rPr>
              <a:t>fresh, new way.</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1" lang="en-US" sz="2000" spc="-1" strike="noStrike">
                <a:solidFill>
                  <a:srgbClr val="003366"/>
                </a:solidFill>
                <a:latin typeface="Verdana"/>
              </a:rPr>
              <a:t>Hard-hitting:</a:t>
            </a:r>
            <a:r>
              <a:rPr b="0" lang="en-US" sz="2000" spc="-1" strike="noStrike">
                <a:solidFill>
                  <a:srgbClr val="003366"/>
                </a:solidFill>
                <a:latin typeface="Verdana"/>
              </a:rPr>
              <a:t>  Its headline, copy, or graphic </a:t>
            </a:r>
            <a:r>
              <a:rPr b="0" lang="en-US" sz="2000" spc="-1" strike="noStrike">
                <a:solidFill>
                  <a:srgbClr val="003366"/>
                </a:solidFill>
                <a:latin typeface="Verdana"/>
              </a:rPr>
              <a:t>	</a:t>
            </a:r>
            <a:r>
              <a:rPr b="0" lang="en-US" sz="2000" spc="-1" strike="noStrike">
                <a:solidFill>
                  <a:srgbClr val="003366"/>
                </a:solidFill>
                <a:latin typeface="Verdana"/>
              </a:rPr>
              <a:t>element stops readers or listeners dead in their </a:t>
            </a:r>
            <a:r>
              <a:rPr b="0" lang="en-US" sz="2000" spc="-1" strike="noStrike">
                <a:solidFill>
                  <a:srgbClr val="003366"/>
                </a:solidFill>
                <a:latin typeface="Verdana"/>
              </a:rPr>
              <a:t>	</a:t>
            </a:r>
            <a:r>
              <a:rPr b="0" lang="en-US" sz="2000" spc="-1" strike="noStrike">
                <a:solidFill>
                  <a:srgbClr val="003366"/>
                </a:solidFill>
                <a:latin typeface="Verdana"/>
              </a:rPr>
              <a:t>tracks.</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1" lang="en-US" sz="2000" spc="-1" strike="noStrike">
                <a:solidFill>
                  <a:srgbClr val="003366"/>
                </a:solidFill>
                <a:latin typeface="Verdana"/>
              </a:rPr>
              <a:t>Memorable:</a:t>
            </a:r>
            <a:r>
              <a:rPr b="0" lang="en-US" sz="2000" spc="-1" strike="noStrike">
                <a:solidFill>
                  <a:srgbClr val="003366"/>
                </a:solidFill>
                <a:latin typeface="Verdana"/>
              </a:rPr>
              <a:t>  It assures that the audience will </a:t>
            </a:r>
            <a:r>
              <a:rPr b="0" lang="en-US" sz="2000" spc="-1" strike="noStrike">
                <a:solidFill>
                  <a:srgbClr val="003366"/>
                </a:solidFill>
                <a:latin typeface="Verdana"/>
              </a:rPr>
              <a:t>	</a:t>
            </a:r>
            <a:r>
              <a:rPr b="0" lang="en-US" sz="2000" spc="-1" strike="noStrike">
                <a:solidFill>
                  <a:srgbClr val="003366"/>
                </a:solidFill>
                <a:latin typeface="Verdana"/>
              </a:rPr>
              <a:t>remember your business when they think about </a:t>
            </a:r>
            <a:r>
              <a:rPr b="0" lang="en-US" sz="2000" spc="-1" strike="noStrike">
                <a:solidFill>
                  <a:srgbClr val="003366"/>
                </a:solidFill>
                <a:latin typeface="Verdana"/>
              </a:rPr>
              <a:t>	</a:t>
            </a:r>
            <a:r>
              <a:rPr b="0" lang="en-US" sz="2000" spc="-1" strike="noStrike">
                <a:solidFill>
                  <a:srgbClr val="003366"/>
                </a:solidFill>
                <a:latin typeface="Verdana"/>
              </a:rPr>
              <a:t>the products and services you are selli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0368DA6-E018-4D12-ADB2-0A973436A7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at Makes Advertising Work (cont’d.)</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Clear:</a:t>
            </a:r>
            <a:r>
              <a:rPr b="0" lang="en-US" sz="2000" spc="-1" strike="noStrike">
                <a:solidFill>
                  <a:srgbClr val="003366"/>
                </a:solidFill>
                <a:latin typeface="Verdana"/>
              </a:rPr>
              <a:t>  The message is presented in a concise, </a:t>
            </a:r>
            <a:r>
              <a:rPr b="0" lang="en-US" sz="2000" spc="-1" strike="noStrike">
                <a:solidFill>
                  <a:srgbClr val="003366"/>
                </a:solidFill>
                <a:latin typeface="Verdana"/>
              </a:rPr>
              <a:t>	</a:t>
            </a:r>
            <a:r>
              <a:rPr b="0" lang="en-US" sz="2000" spc="-1" strike="noStrike">
                <a:solidFill>
                  <a:srgbClr val="003366"/>
                </a:solidFill>
                <a:latin typeface="Verdana"/>
              </a:rPr>
              <a:t>uncomplicated, easy-to-grasp manner.</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1" lang="en-US" sz="2000" spc="-1" strike="noStrike">
                <a:solidFill>
                  <a:srgbClr val="003366"/>
                </a:solidFill>
                <a:latin typeface="Verdana"/>
              </a:rPr>
              <a:t>-  Informative:</a:t>
            </a:r>
            <a:r>
              <a:rPr b="0" lang="en-US" sz="2000" spc="-1" strike="noStrike">
                <a:solidFill>
                  <a:srgbClr val="003366"/>
                </a:solidFill>
                <a:latin typeface="Verdana"/>
              </a:rPr>
              <a:t>  It enlightens the audience about your </a:t>
            </a:r>
            <a:r>
              <a:rPr b="0" lang="en-US" sz="2000" spc="-1" strike="noStrike">
                <a:solidFill>
                  <a:srgbClr val="003366"/>
                </a:solidFill>
                <a:latin typeface="Verdana"/>
              </a:rPr>
              <a:t>	</a:t>
            </a:r>
            <a:r>
              <a:rPr b="0" lang="en-US" sz="2000" spc="-1" strike="noStrike">
                <a:solidFill>
                  <a:srgbClr val="003366"/>
                </a:solidFill>
                <a:latin typeface="Verdana"/>
              </a:rPr>
              <a:t>business and products, while giving them </a:t>
            </a:r>
            <a:r>
              <a:rPr b="0" lang="en-US" sz="2000" spc="-1" strike="noStrike">
                <a:solidFill>
                  <a:srgbClr val="003366"/>
                </a:solidFill>
                <a:latin typeface="Verdana"/>
              </a:rPr>
              <a:t>	</a:t>
            </a:r>
            <a:r>
              <a:rPr b="0" lang="en-US" sz="2000" spc="-1" strike="noStrike">
                <a:solidFill>
                  <a:srgbClr val="003366"/>
                </a:solidFill>
                <a:latin typeface="Verdana"/>
              </a:rPr>
              <a:t>important reasons to buy from you.</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Effective advertising sells a product that fulfills all the</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promises made about it.  On the other hand, effective </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dvertising will also sell inferior products, but only once!</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892B990B-AF40-4252-A06F-5D9038218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at Makes Advertising Work (cont’d.)</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a:t>
            </a:r>
            <a:r>
              <a:rPr b="0" lang="en-US" sz="2000" spc="-1" strike="noStrike">
                <a:solidFill>
                  <a:srgbClr val="003366"/>
                </a:solidFill>
                <a:latin typeface="Verdana"/>
              </a:rPr>
              <a:t>  When you begin to create advertising for your product or service, keep these suggestions in mind:</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Don’t make promises you can’t live up to.</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Although your ad may draw more people to your</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product initially, you won’t retain these people a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loyal customers in the long run if you make promise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you can’t keep.</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6606F63-78D5-4295-8D3E-084EA3A8B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at Makes Advertising Work (cont’d.)</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Identify the best features of whatever it is</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a:t>
            </a:r>
            <a:r>
              <a:rPr b="1" lang="en-US" sz="2000" spc="-1" strike="noStrike">
                <a:solidFill>
                  <a:srgbClr val="003366"/>
                </a:solidFill>
                <a:latin typeface="Verdana"/>
              </a:rPr>
              <a:t>you’re selling, and develop your advertising</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a:t>
            </a:r>
            <a:r>
              <a:rPr b="1" lang="en-US" sz="2000" spc="-1" strike="noStrike">
                <a:solidFill>
                  <a:srgbClr val="003366"/>
                </a:solidFill>
                <a:latin typeface="Verdana"/>
              </a:rPr>
              <a:t>around these features.</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Think about how your product stands out from the</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competition, what sets it apart, and then focus on</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those attributes.  Identify good reasons people would</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be foolish not to shop at your store or buy your</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product or service.   Assume you know your</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market and whom you want to sell to, you’re ready to</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move forward with planning your ad campaign.</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F4CE13A-0F36-45CD-AF15-5BC47E2CD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at Makes Advertising Work (cont’d.)</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1" lang="en-US" sz="2000" spc="-1" strike="noStrike">
                <a:solidFill>
                  <a:srgbClr val="003366"/>
                </a:solidFill>
                <a:latin typeface="Verdana"/>
              </a:rPr>
              <a:t>-  Try to create a memorable advertising message</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    </a:t>
            </a:r>
            <a:r>
              <a:rPr b="1" lang="en-US" sz="2000" spc="-1" strike="noStrike">
                <a:solidFill>
                  <a:srgbClr val="003366"/>
                </a:solidFill>
                <a:latin typeface="Verdana"/>
              </a:rPr>
              <a:t>for your product.</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You want people to think of your store, or your </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widget, or your professional service whenever</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they’re in the market for such a thing.</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member:</a:t>
            </a:r>
            <a:r>
              <a:rPr b="0" lang="en-US" sz="2000" spc="-1" strike="noStrike">
                <a:solidFill>
                  <a:srgbClr val="003366"/>
                </a:solidFill>
                <a:latin typeface="Verdana"/>
              </a:rPr>
              <a:t> If your message is creative, clear, and</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oncise, if your product or service is something that will</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ruly benefit people and live up to its hype, then you’re on</a:t>
            </a:r>
            <a:endParaRPr b="0" lang="en-US" sz="2000" spc="-1" strike="noStrike">
              <a:solidFill>
                <a:srgbClr val="003366"/>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e road to producing effective advertisi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28333ECF-3B04-4510-9600-96E18B973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a:t>
            </a:r>
            <a:endParaRPr b="1" lang="en-US" sz="32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100000"/>
              </a:lnSpc>
              <a:spcBef>
                <a:spcPts val="499"/>
              </a:spcBef>
              <a:buClr>
                <a:srgbClr val="00336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gnore the Rules of Grammar.</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If you’re trying to persuade people to do something, or buy something, it seems to me you should use their language, the language they use every day, the language in which they think.  Try to write in the vernacular, this means to write in the everyday language of the people, especially as distinguished from literary language.  In short write the way people think.</a:t>
            </a:r>
            <a:endParaRPr b="0" lang="en-US" sz="2000" spc="-1" strike="noStrike">
              <a:solidFill>
                <a:srgbClr val="003366"/>
              </a:solidFill>
              <a:latin typeface="Arial"/>
            </a:endParaRPr>
          </a:p>
          <a:p>
            <a:pPr marL="5335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5D1C99D-F1DF-4661-BCB1-CCB1F55A3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100000"/>
              </a:lnSpc>
              <a:spcBef>
                <a:spcPts val="499"/>
              </a:spcBef>
              <a:buClr>
                <a:srgbClr val="003366"/>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ake Your Ads Effective.</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Whether your advertising budget is a million a month or a thousand, you’ll be wasting your money if your ads aren’t effective.  And what makes ads effective is a combination of content and creativity.  Your ads need to give the consumer a good reason to act (content), and they have to be unique enough in their design and copy to attract the consumer’s attention in the first place (creativit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F128ADE-4DDB-4718-9D96-089FF491B6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499"/>
              </a:spcBef>
              <a:buClr>
                <a:srgbClr val="003366"/>
              </a:buClr>
              <a:buSzPct val="7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Know Why People Buy Your Products.</a:t>
            </a:r>
            <a:endParaRPr b="0" lang="en-US" sz="2000" spc="-1" strike="noStrike">
              <a:solidFill>
                <a:srgbClr val="003366"/>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Before you begin the creative process of finding your inimitable message, ask yourself a few simple questions:</a:t>
            </a: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  What are you selling, and what makes it so </a:t>
            </a: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    unique?</a:t>
            </a: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What you’re selling will help you determine what </a:t>
            </a:r>
            <a:r>
              <a:rPr b="0" lang="en-US" sz="2000" spc="-1" strike="noStrike">
                <a:solidFill>
                  <a:srgbClr val="003366"/>
                </a:solidFill>
                <a:latin typeface="Verdana"/>
              </a:rPr>
              <a:t>	</a:t>
            </a:r>
            <a:r>
              <a:rPr b="0" lang="en-US" sz="2000" spc="-1" strike="noStrike">
                <a:solidFill>
                  <a:srgbClr val="003366"/>
                </a:solidFill>
                <a:latin typeface="Verdana"/>
              </a:rPr>
              <a:t>media </a:t>
            </a:r>
            <a:r>
              <a:rPr b="0" lang="en-US" sz="2000" spc="-1" strike="noStrike">
                <a:solidFill>
                  <a:srgbClr val="003366"/>
                </a:solidFill>
                <a:latin typeface="Verdana"/>
              </a:rPr>
              <a:t>	</a:t>
            </a:r>
            <a:r>
              <a:rPr b="0" lang="en-US" sz="2000" spc="-1" strike="noStrike">
                <a:solidFill>
                  <a:srgbClr val="003366"/>
                </a:solidFill>
                <a:latin typeface="Verdana"/>
              </a:rPr>
              <a:t>you should be buying to advertise your </a:t>
            </a:r>
            <a:r>
              <a:rPr b="0" lang="en-US" sz="2000" spc="-1" strike="noStrike">
                <a:solidFill>
                  <a:srgbClr val="003366"/>
                </a:solidFill>
                <a:latin typeface="Verdana"/>
              </a:rPr>
              <a:t>	</a:t>
            </a:r>
            <a:r>
              <a:rPr b="0" lang="en-US" sz="2000" spc="-1" strike="noStrike">
                <a:solidFill>
                  <a:srgbClr val="003366"/>
                </a:solidFill>
                <a:latin typeface="Verdana"/>
              </a:rPr>
              <a:t>product or service.  For example, are you selling </a:t>
            </a:r>
            <a:r>
              <a:rPr b="0"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8F499D5C-7261-4B9A-8200-5FC2FB5D2A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able of Contents</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efinition of Advertising . . . . . . . . . . . . . . . . . . . . . . . . . 2</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efine Yourself  . . . . . . . . . . . . . . . . . . . . . . . . . . . . . . . 3</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efine Your Market . . . . . . . . . . . . . . . . . . . . . . . . . . . . .5</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Why Advertise?  . . . . . . . . . . . . . . . . . . . . . . . . . . . . . . .9</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Importance Of Advertising . . . . . . . . . . . . . . . . . . . . . .  10</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What Makes Advertising Work  . . . . . . . . . . . . . . . . . . . .11</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Ten Secrets For Writing Memorable Advertising. . . . . . . . .16</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Developing A Plan That’s Within Your Budget . . . . . . . . . .29</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Advantages &amp; Disadvantage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	</a:t>
            </a:r>
            <a:r>
              <a:rPr b="0" lang="en-US" sz="1800" spc="-1" strike="noStrike">
                <a:solidFill>
                  <a:srgbClr val="003366"/>
                </a:solidFill>
                <a:latin typeface="Verdana"/>
              </a:rPr>
              <a:t> </a:t>
            </a:r>
            <a:r>
              <a:rPr b="0" lang="en-US" sz="1800" spc="-1" strike="noStrike">
                <a:solidFill>
                  <a:srgbClr val="003366"/>
                </a:solidFill>
                <a:latin typeface="Verdana"/>
              </a:rPr>
              <a:t>Of Different Advertising Media. . . . . . . . . . . . . . . . . . .  42</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Tips On How To Build A Strong Web Site. . . . . . . . . . . . .  53 </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659489AA-1CA7-44DF-AC49-4DB2DE0E0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3.</a:t>
            </a:r>
            <a:r>
              <a:rPr b="0" lang="en-US" sz="1600" spc="-1" strike="noStrike">
                <a:solidFill>
                  <a:srgbClr val="003366"/>
                </a:solidFill>
                <a:latin typeface="Verdana"/>
              </a:rPr>
              <a:t>	</a:t>
            </a:r>
            <a:r>
              <a:rPr b="0" lang="en-US" sz="1600" spc="-1" strike="noStrike">
                <a:solidFill>
                  <a:srgbClr val="003366"/>
                </a:solidFill>
                <a:latin typeface="Verdana"/>
              </a:rPr>
              <a:t> </a:t>
            </a:r>
            <a:r>
              <a:rPr b="1" lang="en-US" sz="2000" spc="-1" strike="noStrike">
                <a:solidFill>
                  <a:srgbClr val="003366"/>
                </a:solidFill>
                <a:latin typeface="Verdana"/>
              </a:rPr>
              <a:t>Know Why People Buy Your Products. (cont’d.)</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tires?  Then your primary media will be print, because you need to list all those different brands, sizes, and prices in those long columns of itsy-bitsy type.</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To whom do you want to sell it?</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For example, if you are selling a professional service such as consulting, then you’ll want to look at news, talk, or another radio format listened to by business people.  If print is in your ad plan, then the local business journal, or the Business section or main News section of your newspapers are good selections.</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54664C7-CA8E-4A61-A94C-A77399087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Know Why People Buy Your Products (cont’d.)</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Why should people buy your product/service from you as opposed to your competition?</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What drives people to buy products or services from you as opposed to your competition can be your image, personality, convenience, service, uniqueness, and price.  A thought to keep in mind is your business’s good reputation for customer service, fair value, good prices, and after-sale concern and care will also go a long way toward ensuring your success.</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2CC3B61-EA36-4FB4-95DF-4D7113389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522720" indent="-522720">
              <a:lnSpc>
                <a:spcPct val="90000"/>
              </a:lnSpc>
              <a:spcBef>
                <a:spcPts val="499"/>
              </a:spcBef>
              <a:buClr>
                <a:srgbClr val="003366"/>
              </a:buClr>
              <a:buSzPct val="75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Find a Creative Hook.</a:t>
            </a:r>
            <a:endParaRPr b="0" lang="en-US" sz="2000" spc="-1" strike="noStrike">
              <a:solidFill>
                <a:srgbClr val="003366"/>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227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Because you want your ads to stand head and shoulders above the crowded universe of advertising, you need to work hard at finding a </a:t>
            </a:r>
            <a:r>
              <a:rPr b="0" i="1" lang="en-US" sz="2000" spc="-1" strike="noStrike">
                <a:solidFill>
                  <a:srgbClr val="003366"/>
                </a:solidFill>
                <a:latin typeface="Verdana"/>
              </a:rPr>
              <a:t>creative hook</a:t>
            </a:r>
            <a:r>
              <a:rPr b="0" lang="en-US" sz="2000" spc="-1" strike="noStrike">
                <a:solidFill>
                  <a:srgbClr val="003366"/>
                </a:solidFill>
                <a:latin typeface="Verdana"/>
              </a:rPr>
              <a:t> — something that will grab the potential customer (but not necessarily by the neck) and drag him into your store.  A creative hook is an emotional trigger that attracts the buyer, something that appeals to the self-image of the buyer, an affirmation that you provide what the buyer is looking for.  Your creative hook must be yours and yours alone, because you will use it, across all media, to differentiate your business from all the other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C9E288E-5274-429F-A523-E0158639A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003366"/>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member That Creativity Is Hard Work.</a:t>
            </a: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Hold brainstorming sessions with your coworkers, your partners, your family, and your friends to come up with ideas for your business’s advertising campaign.  The ideas that are brought forth from brainstorming can bring on more ideas which will eventually result in the perfect creative answer to the problem at hand.</a:t>
            </a: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1" lang="en-US" sz="2000" spc="-1" strike="noStrike">
                <a:solidFill>
                  <a:srgbClr val="003366"/>
                </a:solidFill>
                <a:latin typeface="Verdana"/>
              </a:rPr>
              <a:t>Remember:</a:t>
            </a:r>
            <a:r>
              <a:rPr b="0" lang="en-US" sz="2000" spc="-1" strike="noStrike">
                <a:solidFill>
                  <a:srgbClr val="003366"/>
                </a:solidFill>
                <a:latin typeface="Verdana"/>
              </a:rPr>
              <a:t> Ideas don’t just jump up and bite you.  You need to search for them very diligentl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F181754D-7296-456C-9832-CBE496C4BE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100000"/>
              </a:lnSpc>
              <a:spcBef>
                <a:spcPts val="499"/>
              </a:spcBef>
              <a:buClr>
                <a:srgbClr val="003366"/>
              </a:buClr>
              <a:buSzPct val="75000"/>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Let Your Creative Hook Dictate Your Media Buy.</a:t>
            </a:r>
            <a:endParaRPr b="0" lang="en-US" sz="2000" spc="-1" strike="noStrike">
              <a:solidFill>
                <a:srgbClr val="003366"/>
              </a:solidFill>
              <a:latin typeface="Arial"/>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Often, your creative hook will dictate what media you will be using — your creative hook will literally drive your campaign.  If your hook is visual, then you’ll use print, collateral, and television.  If your concept is audio-driven, you’ll want to use radio.  If your clever new idea is a catchy slogan or a headline, you can consider using any variety of media, including billboards and bus card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20132850-15B9-40C7-AC5F-CBEAF94F7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80000"/>
              </a:lnSpc>
              <a:spcBef>
                <a:spcPts val="499"/>
              </a:spcBef>
              <a:buClr>
                <a:srgbClr val="003366"/>
              </a:buClr>
              <a:buSzPct val="75000"/>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onsider your Budget.</a:t>
            </a: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Before you get carried away with all the great things you’d like to do in your ad campaign, you need to think about your budget.  You need to carefully pick and choose your media and adjust your message accordingly.  A simple rule to remember is: spend as much money on advertising as it takes to make and sustain an impact in the marketplace; but don’t spend so much that you run the risk of putting yourself into financial jeopardy.</a:t>
            </a: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Remember:</a:t>
            </a:r>
            <a:r>
              <a:rPr b="0" lang="en-US" sz="2000" spc="-1" strike="noStrike">
                <a:solidFill>
                  <a:srgbClr val="003366"/>
                </a:solidFill>
                <a:latin typeface="Verdana"/>
              </a:rPr>
              <a:t> You don’t need to buy every media in town in order to get your message across.  You can accomplish your goals with not only a creative message, but also with a creative media bu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341473D4-32E1-4263-B952-A7D699F348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003366"/>
              </a:buClr>
              <a:buSzPct val="7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trive For Continuity.</a:t>
            </a: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Whatever your unique message turns out to be — whether it’s a headline, a sentence, a slogan, a graphic, or another creative hook — use that message consistently in all forms of media.  You need to apply the </a:t>
            </a:r>
            <a:r>
              <a:rPr b="0" i="1" lang="en-US" sz="2000" spc="-1" strike="noStrike">
                <a:solidFill>
                  <a:srgbClr val="003366"/>
                </a:solidFill>
                <a:latin typeface="Verdana"/>
              </a:rPr>
              <a:t>same message</a:t>
            </a:r>
            <a:r>
              <a:rPr b="0" lang="en-US" sz="2000" spc="-1" strike="noStrike">
                <a:solidFill>
                  <a:srgbClr val="003366"/>
                </a:solidFill>
                <a:latin typeface="Verdana"/>
              </a:rPr>
              <a:t> in all the forms of media in order to establish that message as yours and yours alone.  Plus, continuity gives the consumer a better chance to remember it.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0F61C52C-2F99-4823-BF45-6ED7A0977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trive for Continuity (cont’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Warning:</a:t>
            </a:r>
            <a:r>
              <a:rPr b="0" lang="en-US" sz="2000" spc="-1" strike="noStrike">
                <a:solidFill>
                  <a:srgbClr val="003366"/>
                </a:solidFill>
                <a:latin typeface="Verdana"/>
              </a:rPr>
              <a:t>  Don’t say one thing in your radio advertising, and another in print.  Don’t advertise one item in the newspaper and another on TV.  Retailers make this mistake over and over again, and it only serves to confuse the consumer and to water down their overall advertising impact (and budget).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F7A1EAD-1E15-4160-8108-A20C3EA8CE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100000"/>
              </a:lnSpc>
              <a:spcBef>
                <a:spcPts val="499"/>
              </a:spcBef>
              <a:buClr>
                <a:srgbClr val="003366"/>
              </a:buClr>
              <a:buSzPct val="75000"/>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Keep It Simple.</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Here is the best rule you can use as you work toward creating memorable advertising for today’s marketplace: KISS.  That simple acronym is something to keep uppermost in your mind as you go through the process of writing and producing your ads.  And it stands for “Keep It Simple, Stupid.”</a:t>
            </a: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Today’s consumers are inundated with information at a rate unheard of, therefore, your advertising message needs to be simple and to the point.</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C22F7F5-C191-4599-A4D2-7F40C3D814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en Secrets for Writing Memorable Advertising (cont’d.)</a:t>
            </a:r>
            <a:endParaRPr b="1" lang="en-US" sz="32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gn="just">
              <a:lnSpc>
                <a:spcPct val="90000"/>
              </a:lnSpc>
              <a:spcBef>
                <a:spcPts val="499"/>
              </a:spcBef>
              <a:buClr>
                <a:srgbClr val="003366"/>
              </a:buClr>
              <a:buSzPct val="75000"/>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 Clear In Your Message.</a:t>
            </a: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Whether you’re writing advertising for print, radio, television, direct mail, or any of the myriad forms of media, deliver your message in clear, easy-to-understand terms.  That way, the consumer can see at a glance what it is you’re selling and make a snap decision as to whether she wants to read or listen further.  Cut right to the chase!  Don’t get bogged down in details — the consumer doesn’t care and won’t take the time to decipher too much copy or superfluous information.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735AE30-86AD-43D0-907B-770046A26A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ition of Advertising</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dvertising is a program of paid messages designed to inform and educate large numbers of prospective consumers on the features and benefits of your product or services.  Although the ultimate long-term purpose of advertising is, of course, to persuade the consumer to purchase your product or service, some short-term advertising strategies may focus on the development of name recognition onl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4032436-0628-4B51-8E97-D66F0B8A5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a:t>
            </a:r>
            <a:endParaRPr b="1" lang="en-US" sz="32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Knowing How Much To Spen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So, what dollar amount, or percentage of gross sales, should you invest in an advertising budget?  Only you will be able to answer it when it’s all said and done.</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emember:</a:t>
            </a:r>
            <a:r>
              <a:rPr b="0" lang="en-US" sz="2000" spc="-1" strike="noStrike">
                <a:solidFill>
                  <a:srgbClr val="003366"/>
                </a:solidFill>
                <a:latin typeface="Verdana"/>
              </a:rPr>
              <a:t>  Spend as much money on advertising as it takes to make and sustain an impact in the marketplace, but don’t spend so much that you run the risk of putting yourself into financial jeopard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B366D60-C602-4E18-BE7C-6320C2506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 </a:t>
            </a:r>
            <a:r>
              <a:rPr b="0" lang="en-US" sz="2000" spc="-1" strike="noStrike">
                <a:solidFill>
                  <a:srgbClr val="003366"/>
                </a:solidFill>
                <a:latin typeface="Verdana"/>
              </a:rPr>
              <a:t>You can begin the process of setting a budget by trying to come up with some answers to the following questions:</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How big is your business?</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How much yearly income does your business </a:t>
            </a:r>
            <a:r>
              <a:rPr b="0" lang="en-US" sz="2000" spc="-1" strike="noStrike">
                <a:solidFill>
                  <a:srgbClr val="003366"/>
                </a:solidFill>
                <a:latin typeface="Verdana"/>
              </a:rPr>
              <a:t>	</a:t>
            </a:r>
            <a:r>
              <a:rPr b="0" lang="en-US" sz="2000" spc="-1" strike="noStrike">
                <a:solidFill>
                  <a:srgbClr val="003366"/>
                </a:solidFill>
                <a:latin typeface="Verdana"/>
              </a:rPr>
              <a:t>generate?</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What do you want to accomplish with your </a:t>
            </a:r>
            <a:r>
              <a:rPr b="0" lang="en-US" sz="2000" spc="-1" strike="noStrike">
                <a:solidFill>
                  <a:srgbClr val="003366"/>
                </a:solidFill>
                <a:latin typeface="Verdana"/>
              </a:rPr>
              <a:t>	</a:t>
            </a:r>
            <a:r>
              <a:rPr b="0" lang="en-US" sz="2000" spc="-1" strike="noStrike">
                <a:solidFill>
                  <a:srgbClr val="003366"/>
                </a:solidFill>
                <a:latin typeface="Verdana"/>
              </a:rPr>
              <a:t>advertising, and how much will that cost?</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What is your competition spending?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94314A92-633B-4833-A522-103A495C1B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oming Up With A Plan.</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0" lang="en-US" sz="2000" spc="-1" strike="noStrike">
                <a:solidFill>
                  <a:srgbClr val="003366"/>
                </a:solidFill>
                <a:latin typeface="Verdana"/>
              </a:rPr>
              <a:t> </a:t>
            </a:r>
            <a:r>
              <a:rPr b="0" lang="en-US" sz="2000" spc="-1" strike="noStrike">
                <a:solidFill>
                  <a:srgbClr val="003366"/>
                </a:solidFill>
                <a:latin typeface="Verdana"/>
              </a:rPr>
              <a:t>Look At Your Competition.  A good step to consider when devising your advertising plan, and planning the extent of your budget, is to try to find out what your competition is doing.  Check the newspapers to see how often their ads appear in the paper and how much they are spending to advertise there.  How often do you hear the competitors’ radio commercials?</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a:t>
            </a:r>
            <a:r>
              <a:rPr b="0" lang="en-US" sz="2000" spc="-1" strike="noStrike">
                <a:solidFill>
                  <a:srgbClr val="003366"/>
                </a:solidFill>
                <a:latin typeface="Verdana"/>
              </a:rPr>
              <a:t>  Regardless of the limits of your ad budget, and if</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you are trying to reach a broad audience, accept this as a</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40E0D77-1B4D-41FC-84D7-971020FD24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 (cont’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given:  You </a:t>
            </a:r>
            <a:r>
              <a:rPr b="0" i="1" lang="en-US" sz="2000" spc="-1" strike="noStrike">
                <a:solidFill>
                  <a:srgbClr val="003366"/>
                </a:solidFill>
                <a:latin typeface="Verdana"/>
              </a:rPr>
              <a:t>can</a:t>
            </a:r>
            <a:r>
              <a:rPr b="0" lang="en-US" sz="2000" spc="-1" strike="noStrike">
                <a:solidFill>
                  <a:srgbClr val="003366"/>
                </a:solidFill>
                <a:latin typeface="Verdana"/>
              </a:rPr>
              <a:t> afford mass media.  You </a:t>
            </a:r>
            <a:r>
              <a:rPr b="0" i="1" lang="en-US" sz="2000" spc="-1" strike="noStrike">
                <a:solidFill>
                  <a:srgbClr val="003366"/>
                </a:solidFill>
                <a:latin typeface="Verdana"/>
              </a:rPr>
              <a:t>can</a:t>
            </a:r>
            <a:r>
              <a:rPr b="0" lang="en-US" sz="2000" spc="-1" strike="noStrike">
                <a:solidFill>
                  <a:srgbClr val="003366"/>
                </a:solidFill>
                <a:latin typeface="Verdana"/>
              </a:rPr>
              <a:t> afford to buy radio commercials, ads in a mass-circulation daily</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newspaper, spots on broadcast television and cable stations, even ads in the regional editions of major magazines.  But, regardless of the expense (which may be less than you think), when you consider how many people you’ll be reaching, it’s the smartest way you can spend your money.</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FCCF70C7-81BB-4227-A533-F8E4182846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ntifying Your Target Marke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By identifying your primary target market, you can do a better job of narrowing your media buys, which will lead you to a bottom-line budget figure that makes sense.  This information will also help you when it comes time to design and write your ads.</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For example, we all know teenagers speak a different language than adults, therefore, not only must you buy the media they are attracted to, you have to write and design your ads to get their attention in the first place.</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27553BA7-30A6-42BD-A6CE-2274AD7B42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Knowing Your Product.</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What you’re selling will help you determine what media you should be buying.  You must narrow your focus in order to get a handle on the amount you will need to invest in advertising, by identifying your primary market segment.  Targeting your media buys as narrowly as possible will save you money in a big way.</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For example, if you’re selling female products you don’t want to waste too much of your advertising budget advertising to men and vice versa.</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0E2FAD06-41CB-49BB-9158-4CD3C75D8D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aximizing Your Budget.</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You need to spend enough money on advertising to make an impact in the marketplace.  You need to make some noise, be heard above the din of other advertising messages.  But you don’t want to spend more on advertising than you can comfortably afford.  Making the most of the money you have can be a difficult tightrope act.  Remember, consistency is the number one rule in advertising.  In order to compete, you must be heard, so you should at least have some advertising presence at all time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ECD6713-290C-4B30-A87D-9099A04981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Creative and Production.</a:t>
            </a:r>
            <a:endParaRPr b="0" lang="en-US" sz="2000" spc="-1" strike="noStrike">
              <a:solidFill>
                <a:srgbClr val="003366"/>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Creative and Production are areas that, with just a bit of good writing and skillful execution, are perfect places to save money without sacrificing effectiveness.</a:t>
            </a:r>
            <a:endParaRPr b="0" lang="en-US" sz="2000" spc="-1" strike="noStrike">
              <a:solidFill>
                <a:srgbClr val="003366"/>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  </a:t>
            </a:r>
            <a:r>
              <a:rPr b="0" lang="en-US" sz="2000" spc="-1" strike="noStrike">
                <a:solidFill>
                  <a:srgbClr val="003366"/>
                </a:solidFill>
                <a:latin typeface="Verdana"/>
              </a:rPr>
              <a:t>Begin by planning a creative concept that can, at the same time, be produced inexpensively and is clever enough.  You can save money on advertising production if you begin with a clever concept and good writing that take cost-effective production into consideration from the very beginni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ADBB5F33-2E66-4D41-8B2A-AE37821F88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Using the Media You Can Affor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Radio – </a:t>
            </a:r>
            <a:r>
              <a:rPr b="1" lang="en-US" sz="2000" spc="-1" strike="noStrike">
                <a:solidFill>
                  <a:srgbClr val="003366"/>
                </a:solidFill>
                <a:latin typeface="Verdana"/>
              </a:rPr>
              <a:t>Tip</a:t>
            </a:r>
            <a:r>
              <a:rPr b="0" lang="en-US" sz="2000" spc="-1" strike="noStrike">
                <a:solidFill>
                  <a:srgbClr val="003366"/>
                </a:solidFill>
                <a:latin typeface="Verdana"/>
              </a:rPr>
              <a:t>:  An affordable way to buy radio is by taking advantage of the </a:t>
            </a:r>
            <a:r>
              <a:rPr b="0" i="1" lang="en-US" sz="2000" spc="-1" strike="noStrike">
                <a:solidFill>
                  <a:srgbClr val="003366"/>
                </a:solidFill>
                <a:latin typeface="Verdana"/>
              </a:rPr>
              <a:t>package deal</a:t>
            </a:r>
            <a:r>
              <a:rPr b="0" lang="en-US" sz="2000" spc="-1" strike="noStrike">
                <a:solidFill>
                  <a:srgbClr val="003366"/>
                </a:solidFill>
                <a:latin typeface="Verdana"/>
              </a:rPr>
              <a:t>, which includes a certain number of prime spots, a few mid-days, a few overnights, and a few </a:t>
            </a:r>
            <a:r>
              <a:rPr b="0" i="1" lang="en-US" sz="2000" spc="-1" strike="noStrike">
                <a:solidFill>
                  <a:srgbClr val="003366"/>
                </a:solidFill>
                <a:latin typeface="Verdana"/>
              </a:rPr>
              <a:t>rotators</a:t>
            </a:r>
            <a:r>
              <a:rPr b="0" lang="en-US" sz="2000" spc="-1" strike="noStrike">
                <a:solidFill>
                  <a:srgbClr val="003366"/>
                </a:solidFill>
                <a:latin typeface="Verdana"/>
              </a:rPr>
              <a:t> (spots that the station may run anywhere it likes).  Ask the station rep how many gross impression the spots in the package will generate — that number will tell you how many people will actually hear the ads, which in turn will help you decide if the package is all that it’s cracked up to be.</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8AE9B9E4-1C28-4C61-B88A-D2E7406265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Newspaper – In the area of print, you don’t need to buy large ads in order to be noticed.  Take a look at your daily paper and you’ll see that, in most cases, the smaller ads are placed at the top of each page — they sit atop the large space ads.</a:t>
            </a:r>
            <a:endParaRPr b="0" lang="en-US" sz="2000" spc="-1" strike="noStrike">
              <a:solidFill>
                <a:srgbClr val="003366"/>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able TV – Cable television is an affordable media, but if you use it, you need to be diligent about a few detail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8E5DFA60-F63C-43B9-B94F-065C088750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self</a:t>
            </a:r>
            <a:endParaRPr b="1" lang="en-US" sz="3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ess Release</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ne of the first things an entrepreneur wants to do is make a public announcement that the business exist and is open.  This may be the first time anyone has the opportunity to learn about your business and you want to make a good impression on the reader.</a:t>
            </a: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ind an angle that will make them interested.  A good title is a great place to start.  Use some creativity, though not tabloid in nature, to grab the reader’s attention.  Create your press release with the reader in mind.  Make it short, interesting, and above all, give it a catchy title.</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47C2C606-C47A-4F18-96A9-B5B8A4B788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able TV</a:t>
            </a:r>
            <a:r>
              <a:rPr b="1" lang="en-US" sz="2000" spc="-1" strike="noStrike">
                <a:solidFill>
                  <a:srgbClr val="003366"/>
                </a:solidFill>
                <a:latin typeface="Verdana"/>
              </a:rPr>
              <a:t> - </a:t>
            </a:r>
            <a:r>
              <a:rPr b="0" lang="en-US" sz="2000" spc="-1" strike="noStrike">
                <a:solidFill>
                  <a:srgbClr val="003366"/>
                </a:solidFill>
                <a:latin typeface="Verdana"/>
              </a:rPr>
              <a:t>Here are some questions you need to ask before you buy:</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On which of the cable channels will my spots run?</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At what times will the spots run on those channels?</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  In which zones will my spots run?</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Warning:</a:t>
            </a:r>
            <a:r>
              <a:rPr b="0" lang="en-US" sz="2000" spc="-1" strike="noStrike">
                <a:solidFill>
                  <a:srgbClr val="003366"/>
                </a:solidFill>
                <a:latin typeface="Verdana"/>
              </a:rPr>
              <a:t>  Every cable company is selling ads on a hundred or more different channels, each channel is programmed to reach a separate and unique market segment, and each channel is broadcast into various zones.  Make sure you know precisely what you’re buying.</a:t>
            </a:r>
            <a:endParaRPr b="0" lang="en-US" sz="2000" spc="-1" strike="noStrike">
              <a:solidFill>
                <a:srgbClr val="003366"/>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C33ECC3-0921-42E9-9C69-40C7B4DA4A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Broadcast TV – Broadcast television can be affordable in certain time slots.  Time slots vary throughout the day and these time slots are priced with the budgets of most local advertisers.  </a:t>
            </a:r>
            <a:r>
              <a:rPr b="1" lang="en-US" sz="2000" spc="-1" strike="noStrike">
                <a:solidFill>
                  <a:srgbClr val="003366"/>
                </a:solidFill>
                <a:latin typeface="Verdana"/>
              </a:rPr>
              <a:t>Remember:</a:t>
            </a:r>
            <a:r>
              <a:rPr b="0" lang="en-US" sz="2000" spc="-1" strike="noStrike">
                <a:solidFill>
                  <a:srgbClr val="003366"/>
                </a:solidFill>
                <a:latin typeface="Verdana"/>
              </a:rPr>
              <a:t> Go bargain hunting.  Your local media, even some of the national media, have some great deals.</a:t>
            </a:r>
            <a:endParaRPr b="0" lang="en-US" sz="2000" spc="-1" strike="noStrike">
              <a:solidFill>
                <a:srgbClr val="003366"/>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National magazines – Yes, unbelievably, you can afford to buy ads in big-time magazines like </a:t>
            </a:r>
            <a:r>
              <a:rPr b="0" i="1" lang="en-US" sz="2000" spc="-1" strike="noStrike">
                <a:solidFill>
                  <a:srgbClr val="003366"/>
                </a:solidFill>
                <a:latin typeface="Verdana"/>
              </a:rPr>
              <a:t>Time, Newsweek, Sports Illustrated,</a:t>
            </a:r>
            <a:r>
              <a:rPr b="0" lang="en-US" sz="2000" spc="-1" strike="noStrike">
                <a:solidFill>
                  <a:srgbClr val="003366"/>
                </a:solidFill>
                <a:latin typeface="Verdana"/>
              </a:rPr>
              <a:t> and the like by buying advertising in what’s called their </a:t>
            </a:r>
            <a:r>
              <a:rPr b="0" i="1" lang="en-US" sz="2000" spc="-1" strike="noStrike">
                <a:solidFill>
                  <a:srgbClr val="003366"/>
                </a:solidFill>
                <a:latin typeface="Verdana"/>
              </a:rPr>
              <a:t>regional editions.</a:t>
            </a:r>
            <a:r>
              <a:rPr b="0" lang="en-US" sz="2000" spc="-1" strike="noStrike">
                <a:solidFill>
                  <a:srgbClr val="003366"/>
                </a:solidFill>
                <a:latin typeface="Verdana"/>
              </a:rPr>
              <a:t>  It doesn’t cost nearly as much as you think.</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2EE1EBF-198C-4ABD-AF21-254FC35F83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veloping A Plan That’s Within Your Budget (cont’d.)</a:t>
            </a:r>
            <a:endParaRPr b="1" lang="en-US" sz="3200" spc="-1" strike="noStrike">
              <a:solidFill>
                <a:srgbClr val="006666"/>
              </a:solidFill>
              <a:latin typeface="Arial"/>
            </a:endParaRPr>
          </a:p>
        </p:txBody>
      </p:sp>
      <p:sp>
        <p:nvSpPr>
          <p:cNvPr id="1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magazines (cont’d.)</a:t>
            </a:r>
            <a:endParaRPr b="0" lang="en-US" sz="2000" spc="-1" strike="noStrike">
              <a:solidFill>
                <a:srgbClr val="003366"/>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t is possible for you to place your ad in one of these major publications, or a predetermined group of publications that is sold as a package.   These big magazines break down their circulation (and actual printing) into zones or regions.  Therefore, making it accessible for you advertising in these publication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F3DA1BB-2ACB-4F08-8090-C04ADBFE77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a:t>
            </a:r>
            <a:endParaRPr b="1" lang="en-US" sz="3200" spc="-1" strike="noStrike">
              <a:solidFill>
                <a:srgbClr val="006666"/>
              </a:solidFill>
              <a:latin typeface="Arial"/>
            </a:endParaRPr>
          </a:p>
        </p:txBody>
      </p:sp>
      <p:sp>
        <p:nvSpPr>
          <p:cNvPr id="1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ewspaper</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Advantage</a:t>
            </a:r>
            <a:r>
              <a:rPr b="0" lang="en-US" sz="2000" spc="-1" strike="noStrike">
                <a:solidFill>
                  <a:srgbClr val="003366"/>
                </a:solidFill>
                <a:latin typeface="Verdana"/>
              </a:rPr>
              <a:t> – requires less cash outlay than most other forms of advertising.  Most ads are black and white, so production costs are low.  Good coverage of local markets; ads can be placed quickly; high consumer acceptance.  Newspaper ads are great for specific geographic targeting (such as zoned advertising, in which areas of town are targeted for specific advertising content in news sections tailored to them).</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6D417629-F8F9-4507-A26A-C021924153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ewspaper (cont’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Disadvantage</a:t>
            </a:r>
            <a:r>
              <a:rPr b="0" lang="en-US" sz="2000" spc="-1" strike="noStrike">
                <a:solidFill>
                  <a:srgbClr val="003366"/>
                </a:solidFill>
                <a:latin typeface="Verdana"/>
              </a:rPr>
              <a:t> – newspaper ads have a relatively short life span, don’t offer the same quality of reproduction that other print advertising tools do, and are oftentimes quickly scanned by their readers.</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elevision</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Advantage</a:t>
            </a:r>
            <a:r>
              <a:rPr b="0" lang="en-US" sz="2000" spc="-1" strike="noStrike">
                <a:solidFill>
                  <a:srgbClr val="003366"/>
                </a:solidFill>
                <a:latin typeface="Verdana"/>
              </a:rPr>
              <a:t> – uses sight, sound, and motion; reaches all audiences; high attention with no competition from other material.</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B03FD26-144A-49B8-BAE5-2093777010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elevision (cont’d.)</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Disadvantage</a:t>
            </a:r>
            <a:r>
              <a:rPr b="0" lang="en-US" sz="2000" spc="-1" strike="noStrike">
                <a:solidFill>
                  <a:srgbClr val="003366"/>
                </a:solidFill>
                <a:latin typeface="Verdana"/>
              </a:rPr>
              <a:t> – high cost; short exposure time, takes time to prepare ads.  Television ad buys — the buying of time to present your ads — come in two packages: </a:t>
            </a:r>
            <a:r>
              <a:rPr b="0" i="1" lang="en-US" sz="2000" spc="-1" strike="noStrike">
                <a:solidFill>
                  <a:srgbClr val="003366"/>
                </a:solidFill>
                <a:latin typeface="Verdana"/>
              </a:rPr>
              <a:t>network</a:t>
            </a:r>
            <a:r>
              <a:rPr b="0" lang="en-US" sz="2000" spc="-1" strike="noStrike">
                <a:solidFill>
                  <a:srgbClr val="003366"/>
                </a:solidFill>
                <a:latin typeface="Verdana"/>
              </a:rPr>
              <a:t> buys and </a:t>
            </a:r>
            <a:r>
              <a:rPr b="0" i="1" lang="en-US" sz="2000" spc="-1" strike="noStrike">
                <a:solidFill>
                  <a:srgbClr val="003366"/>
                </a:solidFill>
                <a:latin typeface="Verdana"/>
              </a:rPr>
              <a:t>spot</a:t>
            </a:r>
            <a:r>
              <a:rPr b="0" lang="en-US" sz="2000" spc="-1" strike="noStrike">
                <a:solidFill>
                  <a:srgbClr val="003366"/>
                </a:solidFill>
                <a:latin typeface="Verdana"/>
              </a:rPr>
              <a:t> buys.</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etwork buys</a:t>
            </a:r>
            <a:r>
              <a:rPr b="0" lang="en-US" sz="2000" spc="-1" strike="noStrike">
                <a:solidFill>
                  <a:srgbClr val="003366"/>
                </a:solidFill>
                <a:latin typeface="Verdana"/>
              </a:rPr>
              <a:t> of time are megabuys.  Example: for an ad shown during the Super Bowl costs $1.5 million and rising, that’s a network buy, which means that the advertiser is placing its ad on the entire network and reaching its entire viewership of millions during the Super Bowl.</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EF1488A-D942-49BE-9CFD-1B2D368632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Spot buys, </a:t>
            </a:r>
            <a:r>
              <a:rPr b="0" lang="en-US" sz="2000" spc="-1" strike="noStrike">
                <a:solidFill>
                  <a:srgbClr val="003366"/>
                </a:solidFill>
                <a:latin typeface="Verdana"/>
              </a:rPr>
              <a:t>on the other hand,</a:t>
            </a:r>
            <a:r>
              <a:rPr b="1" lang="en-US" sz="2000" spc="-1" strike="noStrike">
                <a:solidFill>
                  <a:srgbClr val="003366"/>
                </a:solidFill>
                <a:latin typeface="Verdana"/>
              </a:rPr>
              <a:t> </a:t>
            </a:r>
            <a:r>
              <a:rPr b="0" lang="en-US" sz="2000" spc="-1" strike="noStrike">
                <a:solidFill>
                  <a:srgbClr val="003366"/>
                </a:solidFill>
                <a:latin typeface="Verdana"/>
              </a:rPr>
              <a:t>are local time buys.  Even within the Super Bowl, for example, some ad time slots are left free by the network for use by local stations.  Those ads will be priced based on the size of the audience reached by the local station and the time slot — the time of day the ad runs.</a:t>
            </a:r>
            <a:endParaRPr b="0" lang="en-US" sz="2000" spc="-1" strike="noStrike">
              <a:solidFill>
                <a:srgbClr val="003366"/>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Tip:</a:t>
            </a:r>
            <a:r>
              <a:rPr b="0" lang="en-US" sz="2000" spc="-1" strike="noStrike">
                <a:solidFill>
                  <a:srgbClr val="003366"/>
                </a:solidFill>
                <a:latin typeface="Verdana"/>
              </a:rPr>
              <a:t>  As with buying radio ad spots, television ad buys, especially those on a local basis, usually involve a frequency strategy, that is, the ad is intended to be viewed frequently over relatively short periods of time.  TV ads also work best when the message is clear, fairly simple, and entertaini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4CEC21D-C3F4-4BE4-8E17-8581B97506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fter your ad is produced and you’re ready to buy time slots on the local station, approach the scheduling process with your facts in hand.  Know the age, gender, and programming preferences of your customer prospects.  Then either your station representative (the sales person representing the TV station) or your media buyer (the ad agency) that is putting together your patterns for various programs to help you select a scheduling that will target the right audience.  Discuss your overall strategy with your media buyer, make sure that he or she also understands your budget constraint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6EB67018-AFDF-4D3C-B8BF-A01AD18D67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Radio</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1" lang="en-US" sz="2000" spc="-1" strike="noStrike">
                <a:solidFill>
                  <a:srgbClr val="003366"/>
                </a:solidFill>
                <a:latin typeface="Verdana"/>
              </a:rPr>
              <a:t>Advantage</a:t>
            </a:r>
            <a:r>
              <a:rPr b="0" lang="en-US" sz="2000" spc="-1" strike="noStrike">
                <a:solidFill>
                  <a:srgbClr val="003366"/>
                </a:solidFill>
                <a:latin typeface="Verdana"/>
              </a:rPr>
              <a:t> – Radio, along with magazines, can better target a specific demographic area.  It allows for short lead times, and can be targeted to people in their cars.  Also, if speedy reaction is what you’re looking for, radio advertising is a proven answer.  Studies indicate that approximately 75 percent of the responses to radio advertising occur in the first week after being aired.</a:t>
            </a: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isadvantage</a:t>
            </a:r>
            <a:r>
              <a:rPr b="0" lang="en-US" sz="2000" spc="-1" strike="noStrike">
                <a:solidFill>
                  <a:srgbClr val="003366"/>
                </a:solidFill>
                <a:latin typeface="Verdana"/>
              </a:rPr>
              <a:t> – People may not listen to your ad; depends on one sense (listening), short exposure time; can’t keep ad.</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CD4970D-CDE9-4E15-BDC0-4B2E76A2E6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9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Magazines (local and national)</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	</a:t>
            </a:r>
            <a:r>
              <a:rPr b="1" lang="en-US" sz="2000" spc="-1" strike="noStrike">
                <a:solidFill>
                  <a:srgbClr val="003366"/>
                </a:solidFill>
                <a:latin typeface="Verdana"/>
              </a:rPr>
              <a:t>Advantage</a:t>
            </a:r>
            <a:r>
              <a:rPr b="0" lang="en-US" sz="2000" spc="-1" strike="noStrike">
                <a:solidFill>
                  <a:srgbClr val="003366"/>
                </a:solidFill>
                <a:latin typeface="Verdana"/>
              </a:rPr>
              <a:t> – the primary benefit of magazine advertising is that the advertiser can target specific audiences, as opposed to newspaper ads where anyone and everyone may be the reader.</a:t>
            </a: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Disadvantage</a:t>
            </a:r>
            <a:r>
              <a:rPr b="0" lang="en-US" sz="2000" spc="-1" strike="noStrike">
                <a:solidFill>
                  <a:srgbClr val="003366"/>
                </a:solidFill>
                <a:latin typeface="Verdana"/>
              </a:rPr>
              <a:t> – the downside of magazine advertising is that it is a high-budget item relative to the other media, especially if you’re using high-profile publications.  The cost of a full-page, full-color ad in a national magazine can easily hit five figure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A6B25EAE-CF9A-4518-A10A-494C59F89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self (cont’d.)</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For small companies or new firms the best strategy is to go for the free press.  You don’t have to be a public relations pro to get some coverage.  Pick up the phone and call the press.  You may have to call more than once, or more than one person, but persistence will pay off.  Know what you’re going to say when you reach someone.</a:t>
            </a: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f you have a website, and every company should, you want to drive potential customers to it because it will be the epicenter of all business someday soon.  So think content for it, and get the press to refer to it—it will bring you busines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D93B5D6A-D025-4F3D-BBE0-4ADCEEB25C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nteresting notes on magazine advertising:</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You must plan your magazine ads well in advance.  Often, magazine ads must be submitted more than two months before the publication hits the mailbox or newsstand.</a:t>
            </a: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Cross your fingers when it comes to placement of your ad.  Everyone wants front-of-the-magazine-right-hand-page placement, but at some magazines you may stand in line behind those long-standing, multiple-page advertisers who have built up clout with the magazine over the years.  If you’re an infrequent advertiser, you may be placed in less-desirable space.</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514EDD26-E353-4F2D-AAD4-E40EE05070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Online advertising</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An increasingly viable option for many small businesses today is a company Web site.  Web sites are relatively inexpensive to establish (several hundred dollars and up) and maintain.</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One distinct advantage of online advertising is that it “levels the playing field.”  Smaller companies can compete with the best boys by building a professional Web site and maintaining it diligently.</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D8CC5396-AE99-4AC0-A38A-266AE4E9EF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1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ublicity</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Publicity, in effect, is “free advertising.”  Typical examples include feature stories and product (or service) announcements published in either print or broadcast media.  Publicity is especially effective as a promotional tool because people (specifically, prospective consumers) give more credibility to what they read or hear when it comes from news sources, whereas their belief in advertising messages understandably is often tainted with varying degrees of suspicion.</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A1639FE-1E86-4EFA-BB3A-1AA61298B9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Advantages and Disadvantages of Different Advertising Media (cont’d.)</a:t>
            </a:r>
            <a:endParaRPr b="1" lang="en-US" sz="32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ublicity (cont’d.)</a:t>
            </a:r>
            <a:endParaRPr b="0" lang="en-US" sz="2000" spc="-1" strike="noStrike">
              <a:solidFill>
                <a:srgbClr val="003366"/>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	</a:t>
            </a:r>
            <a:r>
              <a:rPr b="0" lang="en-US" sz="2000" spc="-1" strike="noStrike">
                <a:solidFill>
                  <a:srgbClr val="003366"/>
                </a:solidFill>
                <a:latin typeface="Verdana"/>
              </a:rPr>
              <a:t>The downside to free publicity, of course, is that similar to word of mouth, you can’t control what is said about your company or your product or service.  Make sure that what you are about to publicize can withstand the sharp eye of media scrutiny.  After all, members of the media know that to maintain their credibility they must present the facts as they really are, not as you say they are.  They have been trained to be suspiciou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BAEE60F-4E7C-4432-ACDB-20E4EACAD5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ips On How To Build A Strong Web Site</a:t>
            </a:r>
            <a:endParaRPr b="1" lang="en-US" sz="32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Up-to-date content:</a:t>
            </a:r>
            <a:r>
              <a:rPr b="0" lang="en-US" sz="2000" spc="-1" strike="noStrike">
                <a:solidFill>
                  <a:srgbClr val="003366"/>
                </a:solidFill>
                <a:latin typeface="Verdana"/>
              </a:rPr>
              <a:t>  Your Web site information should be updated on a regular basis so your visitors have an incentive to come back.  You are looking for repeat visitors here.</a:t>
            </a: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Functionality:</a:t>
            </a:r>
            <a:r>
              <a:rPr b="0" lang="en-US" sz="2000" spc="-1" strike="noStrike">
                <a:solidFill>
                  <a:srgbClr val="003366"/>
                </a:solidFill>
                <a:latin typeface="Verdana"/>
              </a:rPr>
              <a:t>  A wide variety of Internet tools are available to take your business beyond a basic Web presence, enabling you to communicate and collaborate with both customers and potential customers.  Ask your local Web site designer for a list of these tools.</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EC1407E-B8C9-4E62-9DFC-749B26C6E8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ips On How To Build A Strong Web Site (cont’d.)</a:t>
            </a:r>
            <a:endParaRPr b="1" lang="en-US" sz="32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Easy Navigation:</a:t>
            </a:r>
            <a:r>
              <a:rPr b="0" lang="en-US" sz="1800" spc="-1" strike="noStrike">
                <a:solidFill>
                  <a:srgbClr val="003366"/>
                </a:solidFill>
                <a:latin typeface="Verdana"/>
              </a:rPr>
              <a:t>  Keep the look and the layout clean.  If information is difficult to come by, if the flow of your site is not intuitive, or if the font or the background makes information difficult to read, visitors will move on to the hundreds of other choices on the Web.</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Differentiation:</a:t>
            </a:r>
            <a:r>
              <a:rPr b="0" lang="en-US" sz="1800" spc="-1" strike="noStrike">
                <a:solidFill>
                  <a:srgbClr val="003366"/>
                </a:solidFill>
                <a:latin typeface="Verdana"/>
              </a:rPr>
              <a:t>  Your site needs to stand out by being creative with both the text and the graphics.  Once visitors arrive you need to make sure they understand what it is that makes your site (and your products or services) different from the crowd.</a:t>
            </a:r>
            <a:endParaRPr b="0" lang="en-US" sz="1800" spc="-1" strike="noStrike">
              <a:solidFill>
                <a:srgbClr val="003366"/>
              </a:solidFill>
              <a:latin typeface="Arial"/>
            </a:endParaRPr>
          </a:p>
          <a:p>
            <a:pPr marL="343080" indent="-343080" algn="just">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Ultimately, the target of your message, the depth of your pocketbook, and your own expertise will determine the medium that’s best for you.</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1AD43E12-907F-42C7-96BE-D3E446759CEB}"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 Market</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dentify and understand your target audience.  Without this knowledge, any advertise campaign is doomed to failure.  Small businesses especially need to take the time to find out exactly who their potential customers are, how far they are willing to come to buy products, what they need, what they are looking for, what you can provide that others can’t, et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Know everything you can about your customer base.  How?  Use the Internet to search for published materials on consumer behavior (there’s a ton of it out there)  Poll your own customer base by mail, telephone, or in the store.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F27B6632-10B2-4FF8-94BF-3BE4F6C6F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 Market (cont’d.)</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nalyze who is your competition and how they approach the same customer base.  Until you know as much as you can about your customers, how can you effectively decide where and when to advertise and what to promote?</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When you do start talking to them be sure to tell them what they want to hear not what you want to say.  In this ‘what have you done for me lately’ world, do they really care that you’ve been in business since 19-whatever?  Give them messaging that makes them feel good, important, and valued as your customer.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349325CC-5095-4374-ACDF-7C35CFB9A9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 Market (cont’d.)</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Value-added service is king in today’s marketplace.  Do a good job at that and word-of-mouth advertising will bring you more customers than any other medium you could pay for.</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If your budget is limited (whose isn’t?), stick to one or two forms of media that you can afford to saturate.  Spreading your dollars too thin over all media, waters down the effectiveness of your campaign.</a:t>
            </a:r>
            <a:endParaRPr b="0" lang="en-US" sz="2000" spc="-1" strike="noStrike">
              <a:solidFill>
                <a:srgbClr val="0033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Be able to identify your specific customers and know exactly where to find them.  Get specific!.</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997A5603-767D-4107-A36B-B0439C6EFB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Define Your Market (cont’d.)</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Delivering your message to the right people, and doing it with enough frequency to give them a chance to hear or see and understand the message, is the whole story of advertising.</a:t>
            </a:r>
            <a:endParaRPr b="0" lang="en-US" sz="2000" spc="-1" strike="noStrike">
              <a:solidFill>
                <a:srgbClr val="003366"/>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A small budget doesn’t allow much experimentation, and common sense dictates that you target your primary audience first, then the secondary group.</a:t>
            </a:r>
            <a:endParaRPr b="0" lang="en-US" sz="2000" spc="-1" strike="noStrike">
              <a:solidFill>
                <a:srgbClr val="003366"/>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Start by reaching the people closest to your location and then work your way out.</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87AA32F-CA17-4DE8-9158-8BDAD80394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2:16:27Z</dcterms:created>
  <dc:creator>Pete Homer</dc:creator>
  <dc:description/>
  <dc:language>en-US</dc:language>
  <cp:lastModifiedBy>Pete Homer</cp:lastModifiedBy>
  <dcterms:modified xsi:type="dcterms:W3CDTF">2002-05-08T20:43:44Z</dcterms:modified>
  <cp:revision>271</cp:revision>
  <dc:subject/>
  <dc:title>National Indian Business Association</dc:title>
</cp:coreProperties>
</file>